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5929-08D6-491D-A057-76F500B02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7EE6-D815-41FA-A3D4-43CEF6C6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CF60AA-693D-4567-BF7A-CA295064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A34445-7F43-43CC-9C38-0D7CBEC1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61FD5D-6F7D-4227-AC69-B57B1B1C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61E51B-51F7-469E-82A9-43F9FA9A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FE9D1A-5B2A-4FC4-8D1D-6B28683D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9DB95F-80B9-4F09-ADD5-88D714D9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4D7265-FD9C-4310-A809-C306E0B4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2341D5-88ED-46EF-A20B-5A7697E47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916DF2-30A5-4BAE-A028-FBE087B98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2BD72A-43A6-43C6-825B-1BFB96664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F563-7EB4-40D1-8537-B8CA62D04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640506-F464-4DAE-80A2-380B2513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5E8CF1-FC72-4904-8AFE-751FB6DF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FB39CF-2845-4A20-A646-F959F5A6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7D6240-8AE0-49F0-A655-1AF5097A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60698D-4D7A-4F4C-A2F2-906C350D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FF51CC-C641-4187-B197-9B9F9BEB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B3127F-4312-4282-A8E0-D57CB81D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C40CC6-4EDE-40B9-BBB0-A0D6FA5B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D04B6D-E7C3-4DAF-AD70-CCAE91E5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6EBCB7-BB67-4903-8267-25718D84D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E02B-5702-469C-BD32-1D95B46B0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64075E-6A3F-459F-B9FF-2BD27FED3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7630BB-E9E3-4745-A23D-ACA3B606B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CC0CC-B41D-499F-B8E7-839A5DA7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208D7-DCA0-48F4-A329-14598231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6DEC0E-8B96-4325-B9FD-6BE2DF2A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D457C-73F6-4EB3-B5D5-934580D1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3442F-BFC4-4349-BBCB-CBB15D1E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FB7DF7-DB9A-49EF-8A76-1BFB3868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B2D7C-0E0E-4AE0-953F-3454EA60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D252F-28E1-4B4E-AF34-93F87FE9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BE88F-1D6D-403A-8FC4-64F35C27B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A841A-1C89-4E3D-AE5B-51E6D43C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3768B8-6B2F-4E42-823F-C2B81255F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4588E-F14C-4678-8BBA-03A225CC1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3BEAA7-48C1-447D-A320-A2F92C428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8AAAA2-278E-49D5-8E03-FC51C51A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CEC19B-850E-4E4F-A605-F6A371A5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E01EE0-E8DB-4797-B7F1-F83368F6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C0C42E-6C55-44F4-A62B-8958D977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F346D4-BB3D-4138-9374-52618CDD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1DA3D4-14D7-41A7-8635-ECCE5D41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0706-4F5C-44A6-9CA1-93582390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09FF77-1FFE-4EBE-B29A-9054E3F6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9E48C3-A3E2-4964-8601-89A169E4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8F8FC0-9F16-4A89-88AE-DDB92930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2B704C-2F33-4EFE-915C-4A67FD05F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196D0F-D961-4DAE-83D0-50713AD96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4DF1-E959-4E06-B359-1306C557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69D98-E472-4029-8DE9-6652129E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1D70-0311-4292-9C9F-52E66A53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411D2-1ECA-46FA-8BE9-D6145F69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EFE4-7C77-4A26-B321-86445106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41DD-DF09-4F15-ABB5-305B169C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5D21-2930-4C07-9308-494C8F58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102D-D4EA-4113-847D-A82E5D90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478F2-0544-4C9D-95D5-993AEB02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7F80-C861-4C2D-A11C-5C4499557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169F-A3CD-4688-AE37-FE5FC3FED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586B3-1B05-4413-BFF4-3B686A51C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76C81-DC42-4107-A606-09FF3DEB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178DE-FE0B-47A0-B3AF-104A698C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1D3A4-2205-4706-8183-F0207F12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DBEE1-1E5A-45AD-95F4-70DD85DA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64A8-E544-4A25-A7E2-51FF2100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B64BD-DFF5-4EC6-9FAD-97592127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204AF-EC1F-4095-BB6B-D53D62A5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ED785-8230-4478-8090-116835C8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2971B-3367-4E29-8071-7C0FDF42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C0B0C-A126-498C-819F-33834C82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451FD-837B-4706-A25C-6F56A1B1A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5F32F-41AE-4394-819A-7CDCD9698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900F4-F3D6-409F-BEA8-724B0E93A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B074D-3499-423D-94B8-43B39941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E80E2-72A8-4C85-B607-2264BE24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76D8-BA6A-4C77-8504-F7490491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A9FFD-862A-4F22-84E3-7B86D04B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C87AF-7A93-4DC1-A4F4-EF2D0686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609ED-35A7-45F8-A1B0-C8A990C6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15E2B-3DB1-43F3-B288-B02C8134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F604C-A8A7-42F4-9C41-091782B7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975D1-240C-41F0-B40D-5157CCB6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389D0-6FE5-4F92-9D97-715FD6E5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4CF0F-F483-4DCC-A33B-477967716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32086-29E7-4BEA-891F-AA06D6D48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573C4-95EB-489B-B585-EA9328C00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0741-FDDB-47AD-BCA6-1DBBDA64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1E0A2-95BF-42AA-8A49-93B2061C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999CE-BC3C-4242-A59B-2ED2A644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385ED-A35F-41E5-B5E3-C4554274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35F29-D24F-4517-BD68-4B7751CA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3CB42-347B-4D4A-B3C7-1FCC83E9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61107-30ED-4810-9A8A-1C25F6B8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535F8-3DBD-4223-B918-A013BA64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8E511-ABF4-4F33-976D-FA91B3C2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76D76-3718-41F3-97A5-92481DC9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D0A31-2EAD-4ECA-A88A-996A53DF5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4939-39BA-432A-B4A2-8D040C5C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9976A-47C4-4BE1-9538-F7EAD69A7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983C3-79D6-492A-B059-E4016CAF0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ED474-69E2-4C4F-8C80-53233209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D26AF-4027-4B66-BCFB-2A2E6CFF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EA7FE-58A9-4641-B872-E942DC51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8223B-F270-4502-8C05-9C8CDDDC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684EC-1575-4E62-99CD-1EAF36C2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8D04D-8E33-4DE7-BEAA-907E3814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BA84A-855E-40F6-853B-E655A985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7990E-40AF-43E5-8582-1CD1DEFE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1323-D498-47B2-A3BE-8BD0A23E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17F88-2D86-43F1-8D01-30264B95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727DB-AC4C-41E7-BD81-9AE558121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15C5C-3784-4038-9BB8-528CEA940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BFF8C-3B2F-458D-A771-D064D8575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13506-93E4-4B2E-BDBD-F795BCBE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2C9D9-CF29-48E0-A2CC-AFE19FB6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6A320-8381-4F2C-B72D-4EF0ECF0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2E0F3-E1A4-4EDB-A164-B631F937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6B56F-6110-43AE-A712-4E6BA78E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AD012-D322-4257-949F-F8C13596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7390-4CD0-4DD9-9EF8-366D24AB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4AE94-3CDD-4855-B0ED-D55E2812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88B4C-30EE-4BC0-B858-7FD99E5A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3958A-8B07-4AD5-A885-BEB17879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D872F-644F-4B71-8DA5-B189D58C4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CEDC6-ED47-4C18-BDBB-E6445E51E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89755-F9DC-4A7C-A955-C0C69A58A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ED6A9-B107-4053-9D03-629D9FED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4B492-B471-4B14-AE0F-AF213E02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9877C-E8E3-44F3-85D8-9605F524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DD359-FE59-4AAD-87E9-997C2AB1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22FF-F7D5-4188-AC93-848D766B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4D488-4D17-41A6-832F-C07D7D9C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6E691-BD55-4174-88A6-36DDCE61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67196-5D70-44BF-B55F-9BA2E438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B399A-A344-473E-BF31-0D32D707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98AC9-35FF-4E3B-AD8C-32EB3D83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3220E-9DDE-4881-B766-64C415221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753F0-379E-470D-A003-6ADD2B984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D390F0-6766-4653-8DAB-C83F5F1E8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BC79FF-A5C2-45E5-8BC0-4D9709C3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6D7417-E7F9-448E-81EA-DEBDE7DE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C797-9F24-4A5E-8887-63EBADF7C57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2461-B8A7-43E1-88AB-8EA56EB9756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2609-36D1-4F2D-B967-09428067807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F7BF-2AB8-4957-9669-1D46D614CFA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A39D-72CF-4E35-83CA-97623F074B4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0432-E9EE-47F4-ADBE-AA319652D46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44AD-E068-41CD-808D-4395EED01A5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7492-E7B0-4AF7-8245-E628679244F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FD9A-85EA-4CC4-94DE-45968D16B55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CF1F-FA26-46A6-9224-4666C22D73A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08DE-2C81-42F5-8879-80534EB3C30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C16C-CA49-4BC3-8BDA-5571661A89E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21 Tak, ako dávno,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dnes zn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k, ako dávno, aj dnes zni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o Božej lásky pozva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k ochotne naň odpovie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ť nový život s Kristom smie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š z hriechu pút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a vymani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svojho Tvorcu osláviť?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ver Kristovi dnes život svo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dobre bojuj viery b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čuje vrúcnej prosby hl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d pomôže ti práve vč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 všetkom, čo ťa trápi, vi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pokoj svoj ti daru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ľaď na neho vždy s dôvero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najlepšou je oporo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s ním bezpečná je žitia pú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ňom smieme večne spočinúť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4T14:47:02Z</dcterms:modified>
  <cp:revision>25</cp:revision>
  <dc:subject/>
  <dc:title>Je veľký náš Pán, on slávy je Kráľ Nech do všetkých strán  spev vrúcnych znie chvál.</dc:title>
</cp:coreProperties>
</file>